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FE1-FA76-4847-A381-7CA6EDC3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563-E220-40D8-96A4-447D387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B09-633D-4A7A-B377-61E8CE34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BE8-F2AC-4CB3-B49A-EA92DCC1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312-CDB9-41F8-B4E8-9248405B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CAA-1CDC-445C-9F78-D4BA4070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5C2-B7CA-4AA2-8B5D-FB09BD4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B12-B33C-4328-ACF6-7F88AE68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0E8-01C2-4AE3-8048-1ECA0EA6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CD9-FFAF-455F-B133-5AFA693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EF5-F0CB-4926-AD2A-2D79A24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13D-78D3-4B91-8A5D-2345952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83865B-7DE2-48AB-B7DE-A2D09125CF3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025880" cy="372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Bot 2.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čebná pomôcka pre záujemcov o robot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950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vid Gustafík a Pavol Krasňanský, v spolupráci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80836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adiaca elektro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zog celého zariad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lá kompaktná doska s procesorom A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á na sebe univerzálnu dosku, procesor, BlueTooth, spínanie a ovládanie servomotorov, pripojenia viacerých senzorov, prípojku na vyšší systé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6659640" cy="380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2997360"/>
            <a:ext cx="2016000" cy="3600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292640"/>
            <a:ext cx="1368360" cy="1297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860640"/>
            <a:ext cx="1368360" cy="1513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89360"/>
            <a:ext cx="649440" cy="223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924280"/>
            <a:ext cx="1297080" cy="57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2924280"/>
            <a:ext cx="1728720" cy="79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860640"/>
            <a:ext cx="505080" cy="136872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5013360"/>
            <a:ext cx="647640" cy="1368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734080"/>
            <a:ext cx="720720" cy="64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6320" y="86688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885097"/>
              <a:gd name="adj4" fmla="val -3739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x tlačí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989000"/>
            <a:ext cx="1939680" cy="330480"/>
          </a:xfrm>
          <a:prstGeom prst="borderCallout1">
            <a:avLst>
              <a:gd name="adj1" fmla="val 18750"/>
              <a:gd name="adj2" fmla="val -8333"/>
              <a:gd name="adj3" fmla="val 842305"/>
              <a:gd name="adj4" fmla="val -3772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907920"/>
            <a:ext cx="4176720" cy="330480"/>
          </a:xfrm>
          <a:prstGeom prst="borderCallout1">
            <a:avLst>
              <a:gd name="adj1" fmla="val 18750"/>
              <a:gd name="adj2" fmla="val -8333"/>
              <a:gd name="adj3" fmla="val 696634"/>
              <a:gd name="adj4" fmla="val -26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vyššieho systé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13000"/>
            <a:ext cx="3887640" cy="431640"/>
          </a:xfrm>
          <a:prstGeom prst="borderCallout1">
            <a:avLst>
              <a:gd name="adj1" fmla="val 18750"/>
              <a:gd name="adj2" fmla="val -8333"/>
              <a:gd name="adj3" fmla="val 398527"/>
              <a:gd name="adj4" fmla="val -926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nárazníkov a 4x 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060640"/>
            <a:ext cx="1944720" cy="647640"/>
          </a:xfrm>
          <a:prstGeom prst="borderCallout1">
            <a:avLst>
              <a:gd name="adj1" fmla="val 18750"/>
              <a:gd name="adj2" fmla="val -8333"/>
              <a:gd name="adj3" fmla="val 491175"/>
              <a:gd name="adj4" fmla="val 112652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x Analógové 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56536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501444"/>
              <a:gd name="adj4" fmla="val -45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328464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2045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x 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5373720"/>
            <a:ext cx="1939680" cy="330120"/>
          </a:xfrm>
          <a:prstGeom prst="borderCallout1">
            <a:avLst>
              <a:gd name="adj1" fmla="val 18750"/>
              <a:gd name="adj2" fmla="val -8333"/>
              <a:gd name="adj3" fmla="val 214902"/>
              <a:gd name="adj4" fmla="val -154171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P rozhr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557360"/>
            <a:ext cx="2156040" cy="330120"/>
          </a:xfrm>
          <a:prstGeom prst="borderCallout1">
            <a:avLst>
              <a:gd name="adj1" fmla="val 18750"/>
              <a:gd name="adj2" fmla="val -8333"/>
              <a:gd name="adj3" fmla="val 920671"/>
              <a:gd name="adj4" fmla="val -17967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niverzálna dos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ôležitá časť robota – umožňuje študentom tvoriť vlastné zapojenia na robota, prípadne pripájať neštandardné senzory – na plyn, svetlo, tlak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 na ňu vyved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x digitálne I/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x analógových vstup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I2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ériová lin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x preruše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+5V, 3.3V, G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608472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enz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sledovanie čiary: 2x CNY70 na samostatných doskách – kvôli jednoduchšiemu umiestnen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4083120"/>
            <a:ext cx="2808360" cy="277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06064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árazník: 4x mikrospínače spojené s kruhom ktorý obopína celého robota zo všetkých strán – možnosť zistenia smeru náraz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6864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mapovanie prostredia – mechanické riešenie pre 4x GP2Dxx senz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munikác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ueTooth – dosah 3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í na PC štandardný sériový port na ktorý sa možno napojiť akýmkoľvek terminálom, alebo špeciálnou aplikáci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ériová 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tokol kompatibilný s tým, čo je použitý v Robotic Labe na FEI S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Firmware a softw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mware: Jednoduchý framework na ktorom je možné ďalej stavať, napísaný v C pre AV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šetky nástroje použité sú zadarmo ( kompilátor, simulátor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: Akýkoľvek terminálový program, alebo užívateľská apliká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arametre S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9280" y="1125360"/>
            <a:ext cx="8508960" cy="5550120"/>
            <a:chOff x="179280" y="1125360"/>
            <a:chExt cx="8508960" cy="5550120"/>
          </a:xfrm>
        </p:grpSpPr>
        <p:sp>
          <p:nvSpPr>
            <p:cNvPr id="130" name=""/>
            <p:cNvSpPr/>
            <p:nvPr/>
          </p:nvSpPr>
          <p:spPr>
            <a:xfrm>
              <a:off x="3981600" y="63086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, assemb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80" y="63086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cí jazy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1600" y="594360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LED dióda, 3x tlačít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80" y="594360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é užívateľské zariad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600" y="5270400"/>
              <a:ext cx="4705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P2Dxx senzory na vzdialenosť, viac senzorov na čiar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80" y="5270400"/>
              <a:ext cx="3802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Ďalšie pripojiteľné senzory bez akejkoľvek úpravy robo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81600" y="4595760"/>
              <a:ext cx="47052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Senzor na čiaru, nárazník na zistenie so štyrmi možnými smermi náraz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80" y="4595760"/>
              <a:ext cx="3802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zory v základnej výb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81600" y="423072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80" y="423072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sah BlueToo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1600" y="38656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P, bootloa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80" y="38656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nie proceso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81600" y="3500280"/>
              <a:ext cx="470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Mega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280" y="3500280"/>
              <a:ext cx="3802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lavný proces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81600" y="31352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,156m/s = 0,5625km/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280" y="31352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ýchlos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1600" y="2495520"/>
              <a:ext cx="4705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modelárske servomotory, max. pripojiteľných serv: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9280" y="2495520"/>
              <a:ext cx="3802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h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81600" y="21304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96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1304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motnosť so zdroj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81600" y="17654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1,2V NiMH/NiCD akumulá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280" y="17654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pájani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81600" y="1125360"/>
              <a:ext cx="4705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0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125360"/>
              <a:ext cx="3802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emer robota s osadeným nárazník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176544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16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21304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280" y="24955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31352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35002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38656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42307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280" y="45957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280" y="527040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280" y="594360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63086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11253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1125360"/>
              <a:ext cx="180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868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66736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742000" cy="319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450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k sú nejaké otázky, prosím, pýtajte 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ieľ projekt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dať nový systém do RoboticLabu na FEI v spolupráci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iť rozšíriteľnú učebnú pomôcku z bežne dostupných komponen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hrať s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2066760" cy="26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ncepcia a čo s tý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ostatné zariadenie na skúšanie si algoritmov, učenie sa základných princípov robotiky – detekcia a obídenie prekážky, sledovanie č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vozok pre vyšší systém – na robota možno napojiť napr. jednodoskový počítač s Linuxom a kamerou, cez ktorý je možné skúšať pokročilejšie princípy robotiky – rozpoznávanie obrazu, umelá inteligenci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z BlueTooth na diaľku riadený robot, vhodný napr. do Robotic Lab na FEI 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Mecha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lavná časť: Len jeden kus hliníku – ľahko a lacno vyrobiteľné dvoma operáciami, všetko ostatné – štandardné di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statok montážnych otvorov na ďalšie rozšírenia ( senzory, iná mechanika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456000" cy="282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378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noduchá montáž – stačí len zoskrutkovať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kážka montáž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lavné čast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36760"/>
            <a:ext cx="4427640" cy="362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oh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žný trojbodový systém – jeden pasívny oporný bod, dve kolie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ory – bežné modelárske servomo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tí oporný bod – záslepka na skrut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35640" y="4560840"/>
            <a:ext cx="28083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loková schéma ro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068640"/>
            <a:ext cx="3384720" cy="20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068640"/>
            <a:ext cx="1800360" cy="863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2349360"/>
            <a:ext cx="1800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724280"/>
            <a:ext cx="1800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Čia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589720"/>
            <a:ext cx="1800360" cy="100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áraz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00536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zdiale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95008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t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557360"/>
            <a:ext cx="2519280" cy="64764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yšší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429000"/>
            <a:ext cx="129672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221000"/>
            <a:ext cx="151272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4221000"/>
            <a:ext cx="1584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ín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42900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/O na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adiac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429000"/>
            <a:ext cx="1368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562200" y="429264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62200" y="479736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562200" y="5011560"/>
            <a:ext cx="1371600" cy="795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64000" y="2635200"/>
            <a:ext cx="1368360" cy="434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276640"/>
            <a:ext cx="144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03280" y="5083200"/>
            <a:ext cx="1800" cy="86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557360"/>
            <a:ext cx="2376360" cy="71928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Študentská apliká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 univerzálnej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4920" y="2276640"/>
            <a:ext cx="180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72360" y="1626840"/>
            <a:ext cx="144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1410840"/>
            <a:ext cx="14436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72360" y="1410840"/>
            <a:ext cx="144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26200" y="1410840"/>
            <a:ext cx="14760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Napájani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 x AA batérie, môžu byť nabíjateľné NiMH, Ni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iestnené na spodku robota, zabezpečujú rovnováh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3280" y="3794040"/>
            <a:ext cx="3744720" cy="30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</dc:creator>
  <dc:description/>
  <dc:language>en-US</dc:language>
  <cp:lastModifiedBy>D</cp:lastModifiedBy>
  <cp:revision>0</cp:revision>
  <dc:subject/>
  <dc:title>SBot 2.0</dc:title>
</cp:coreProperties>
</file>